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37D0-4953-4852-8A3C-D5DB335C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CAB9-CC4C-449E-ADD7-47D5A40E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48A5-26D4-4A0A-BFF5-E31E83B0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9D76-AA6C-43DE-8B1E-C8EC3D00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0C3A-2BD0-4C6D-9CD1-A33CF470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7096-A6E0-49A8-B599-ED76F913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2C37-5448-41DB-8519-ED20A24C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F9EA-0893-4573-B5F3-860C7591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F132-60BF-4780-B0F6-A840252C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D5FE-90B5-4F28-832F-5573F316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510C-696A-4FA8-AA89-0FCF62F6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D31C-C50E-4D7B-B61B-845AEA6E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EC0E-0AED-4715-A386-0CA34DE3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C543-D135-4194-8FD6-F85CAB36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5A75-22C4-4D8E-A26A-B6A05615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ECD5-CAA6-4D2F-9FFA-B8E24BB3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EDC0-DE0E-4690-9229-E8EBD2FC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7A74-ABBB-4C5B-9721-6D40DF5F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9E02-9BCB-4AF3-890C-498B6426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405B-9656-4A55-997A-DBD0C3DC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2F89-8F28-4CE9-B331-5749A45E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304B-61E3-40A9-9FBC-AE977DD7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90EA-5478-4717-BEEF-071CE674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18E5-3332-49FD-92FC-0572E564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B01B-D0A2-4587-A7AA-4935F6C4B07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512A-6E51-4F1D-8BEA-43B8965DDDB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ometry 1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nday, October 4, 201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Handwriting"/>
              </a:rPr>
              <a:t>Use angle postula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Handwriting"/>
              </a:rPr>
              <a:t>Classify angles as acute, obtuse or righ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Handwriting"/>
              </a:rPr>
              <a:t>Use correct mathematical terminology in discussing problems and answering questio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Handwriting"/>
              </a:rPr>
              <a:t>Find the measure of an angle using a protracto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81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ll Work: What are your plans for fall break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it 1 Exam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eometry 1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dnesday, October 6, 201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003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Handwriting"/>
              </a:rPr>
              <a:t>Use correct mathematical terminology in discussing problems and answering questio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Handwriting"/>
              </a:rPr>
              <a:t>Find the measure of an angle using a protracto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2880" y="1828800"/>
            <a:ext cx="4003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ll Work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20:05:51Z</dcterms:created>
  <dc:creator>tstephens</dc:creator>
  <dc:description/>
  <dc:language>en-US</dc:language>
  <cp:lastModifiedBy>tstephens</cp:lastModifiedBy>
  <dcterms:modified xsi:type="dcterms:W3CDTF">2010-10-01T19:30:44Z</dcterms:modified>
  <cp:revision>46</cp:revision>
  <dc:subject/>
  <dc:title>Slide 1</dc:title>
</cp:coreProperties>
</file>